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4A6A-9671-4F42-8350-5AA078BFD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B40F-B838-4339-94B0-20FC0AA1A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F45C-7651-4796-8515-921EF438F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6054-82E7-49E2-957E-37626BFC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CA65-7D85-4E4B-9A0F-BE8FBCF3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9473-8055-4BBE-9A23-EFBA1513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6A0F-D134-4E3E-925D-A40CC311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F3D7-85D2-4CF3-BEE3-4E9D709E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4EBE-50D3-451C-AEB3-A245997B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662E-AA7E-482E-9E72-3360644A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E7B3-FD98-4E18-B3F0-2033A126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C83E-98F5-4D66-9895-25AEF1DE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51DE-F49E-4BAE-9F65-3A9DCC69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D3C2-8AB9-46BA-910C-676804D8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393C-5A50-4169-9E9E-5A2774D2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BB82-12EB-423A-B121-244CE1FD9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80880" y="304920"/>
            <a:ext cx="85345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esente de indicativo expresa a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 tienen lugar en el momento en que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b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Carlitos estudia en el institu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esente de indicativo expresa a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 ocurren frecuentemen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Carla nunca desayuna por la mañ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e expresar acciones futu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El verano que viene mis amigos se va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vacaciones a Nicara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/GIR---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i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ir             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i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co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er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co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ir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er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ros verb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ber                         que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v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erbos Irregular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ambio radical)- pres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s verbos con cambio radical en la raiz se les conoce como “verbos bot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 llaman asi por que su raíz cambia de una vocal a dos voc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o saber cual vocal camb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Busca la raíz del verbo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ra el ejemplo 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nzar   ---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Come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b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Raí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666880" y="3657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Encuentra la vocal que está la más cerca al final de la  raíz  que has encontra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648320" y="289548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Cambia la vocal 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-&gt;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&gt;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&gt;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n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i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z</a:t>
            </a:r>
            <a:br>
              <a:rPr sz="36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 com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i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zo, tu com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i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e----i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enz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e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per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648320" y="1600200"/>
          <a:ext cx="4038480" cy="22446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897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er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i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er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ie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erí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i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ie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97" name="Text Box 41"/>
          <p:cNvSpPr/>
          <p:nvPr/>
        </p:nvSpPr>
        <p:spPr>
          <a:xfrm>
            <a:off x="457200" y="15238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---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600200"/>
          <a:ext cx="3200400" cy="21337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</a:tblGrid>
              <a:tr h="533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e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em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e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é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e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e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100" name="Text Box 29"/>
          <p:cNvSpPr/>
          <p:nvPr/>
        </p:nvSpPr>
        <p:spPr>
          <a:xfrm>
            <a:off x="5715000" y="1125360"/>
            <a:ext cx="449568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ont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o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mor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ñ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rm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---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3352680" cy="207324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</a:tblGrid>
              <a:tr h="518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d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d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dí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d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103" name="Text Box 35"/>
          <p:cNvSpPr/>
          <p:nvPr/>
        </p:nvSpPr>
        <p:spPr>
          <a:xfrm>
            <a:off x="6019920" y="1600200"/>
            <a:ext cx="27432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e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e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stir(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ír(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reír(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e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ómo se forma los verbos siguien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648320" y="1600200"/>
          <a:ext cx="4038480" cy="25146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39672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cord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cuer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rda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uer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rdá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uer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uerd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648320" y="3809880"/>
          <a:ext cx="4038480" cy="23162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455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í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 rí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s reí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 rí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 reí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 rí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 rí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85800" y="3048120"/>
          <a:ext cx="3429000" cy="158436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</a:tblGrid>
              <a:tr h="3967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te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tie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ende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iend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endé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ien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ien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36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a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i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31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éi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31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i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 tiempo presen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419720" y="2666880"/>
          <a:ext cx="2057400" cy="121932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n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n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n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n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e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419720" y="1219320"/>
          <a:ext cx="2057400" cy="12189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n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ne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né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33520" y="4191120"/>
          <a:ext cx="1676160" cy="1258920"/>
        </p:xfrm>
        <a:graphic>
          <a:graphicData uri="http://schemas.openxmlformats.org/drawingml/2006/table">
            <a:tbl>
              <a:tblPr/>
              <a:tblGrid>
                <a:gridCol w="685800"/>
                <a:gridCol w="990360"/>
              </a:tblGrid>
              <a:tr h="312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o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a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á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á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33520" y="2666880"/>
          <a:ext cx="1676160" cy="121932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362320" y="4191120"/>
          <a:ext cx="1828800" cy="121896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í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í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y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y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2362320" y="1219320"/>
          <a:ext cx="1676160" cy="124776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</a:tblGrid>
              <a:tr h="326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m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362320" y="2666880"/>
          <a:ext cx="1752480" cy="1219320"/>
        </p:xfrm>
        <a:graphic>
          <a:graphicData uri="http://schemas.openxmlformats.org/drawingml/2006/table">
            <a:tbl>
              <a:tblPr/>
              <a:tblGrid>
                <a:gridCol w="761760"/>
                <a:gridCol w="99072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c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c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33520" y="1219320"/>
          <a:ext cx="1676160" cy="121896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s formas irregulare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ólo en la forma Y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—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erb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ingui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distin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er                 cai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cer               ha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ner               pon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ir                 sal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er                trai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er                val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/CIR---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zc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uci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u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z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ocer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o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z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cer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z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edecer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ede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z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ecer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e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zc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ir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z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ucir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u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z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Qué pasa con estos verb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noc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op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hac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hac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ra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aparec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a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4"/>
          <p:cNvSpPr txBox="1"/>
          <p:nvPr/>
        </p:nvSpPr>
        <p:spPr>
          <a:xfrm>
            <a:off x="838080" y="1905120"/>
            <a:ext cx="17049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conozco</a:t>
            </a:r>
            <a:endParaRPr b="0" lang="en-US" sz="2400" spc="1" strike="noStrike">
              <a:ln w="936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6934320" y="1828800"/>
            <a:ext cx="11998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pongo</a:t>
            </a:r>
            <a:endParaRPr b="0" lang="en-US" sz="2400" spc="1" strike="noStrike">
              <a:ln w="936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4" name="WordArt 6"/>
          <p:cNvSpPr txBox="1"/>
          <p:nvPr/>
        </p:nvSpPr>
        <p:spPr>
          <a:xfrm>
            <a:off x="914400" y="3581280"/>
            <a:ext cx="139068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hago</a:t>
            </a:r>
            <a:endParaRPr b="0" lang="en-US" sz="2400" spc="1" strike="noStrike">
              <a:ln w="936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5" name="WordArt 7"/>
          <p:cNvSpPr txBox="1"/>
          <p:nvPr/>
        </p:nvSpPr>
        <p:spPr>
          <a:xfrm>
            <a:off x="6781680" y="5334120"/>
            <a:ext cx="15336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pongo</a:t>
            </a:r>
            <a:endParaRPr b="0" lang="en-US" sz="2400" spc="1" strike="noStrike">
              <a:ln w="936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WordArt 8"/>
          <p:cNvSpPr txBox="1"/>
          <p:nvPr/>
        </p:nvSpPr>
        <p:spPr>
          <a:xfrm>
            <a:off x="4191120" y="1905120"/>
            <a:ext cx="1133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hago</a:t>
            </a:r>
            <a:endParaRPr b="0" lang="en-US" sz="2400" spc="1" strike="noStrike">
              <a:ln w="936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7" name="WordArt 9"/>
          <p:cNvSpPr txBox="1"/>
          <p:nvPr/>
        </p:nvSpPr>
        <p:spPr>
          <a:xfrm>
            <a:off x="6095880" y="3276720"/>
            <a:ext cx="20955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aparezco</a:t>
            </a:r>
            <a:endParaRPr b="0" lang="en-US" sz="2400" spc="1" strike="noStrike">
              <a:ln w="936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" name="WordArt 10"/>
          <p:cNvSpPr txBox="1"/>
          <p:nvPr/>
        </p:nvSpPr>
        <p:spPr>
          <a:xfrm>
            <a:off x="762120" y="5486400"/>
            <a:ext cx="17049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mpongo</a:t>
            </a:r>
            <a:endParaRPr b="0" lang="en-US" sz="2400" spc="1" strike="noStrike">
              <a:ln w="936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" name="WordArt 11"/>
          <p:cNvSpPr txBox="1"/>
          <p:nvPr/>
        </p:nvSpPr>
        <p:spPr>
          <a:xfrm>
            <a:off x="3124080" y="3124080"/>
            <a:ext cx="11718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traigo</a:t>
            </a:r>
            <a:endParaRPr b="0" lang="en-US" sz="2400" spc="1" strike="noStrike">
              <a:ln w="936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0" name="WordArt 12"/>
          <p:cNvSpPr txBox="1"/>
          <p:nvPr/>
        </p:nvSpPr>
        <p:spPr>
          <a:xfrm>
            <a:off x="4114800" y="4495680"/>
            <a:ext cx="156204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traigo</a:t>
            </a:r>
            <a:endParaRPr b="0" lang="en-US" sz="2400" spc="1" strike="noStrike">
              <a:ln w="936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7:27:52Z</dcterms:created>
  <dc:creator>cderrane</dc:creator>
  <dc:description/>
  <dc:language>en-US</dc:language>
  <cp:lastModifiedBy>Jessica Kaplan</cp:lastModifiedBy>
  <dcterms:modified xsi:type="dcterms:W3CDTF">2011-12-06T14:01:50Z</dcterms:modified>
  <cp:revision>17</cp:revision>
  <dc:subject/>
  <dc:title>Slide 1</dc:title>
</cp:coreProperties>
</file>